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8E3-551D-4694-99B1-FFDC196D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D48-EB4B-4C9F-9757-660E05D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6E1-4FAC-4BF5-A24E-E42BDE18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BD0-F771-4D12-84A8-95645E39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ED6A-BCCA-431F-A9FC-11DB4393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B9AB-2850-4B5D-AA62-32AF16AF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8CDB-B940-4066-9763-42852304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61F-1DF3-4C02-89C9-17F3F021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B94D-9380-46C1-8671-39B57183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71FC-2DDF-44DA-8DF8-0DE6806E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4419-44A5-48B9-915E-1A398511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BA8-2D3B-49C9-8933-D3DEF9B2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AB3-26A0-4124-BC04-91A2816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D1C0-7710-46E5-A614-DA6384D6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A696-C74C-4746-8D11-CB4186D5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E2E4-94E7-45A0-A656-DBF8D9D7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98D4-A75F-4723-907E-D90D254C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8B0-C986-452B-A397-9E7C16B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B20-9409-49A1-873A-49BC4398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BB9-A821-46C1-A526-2FA47E51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5B1-19FC-4BC0-A21E-3298AC1D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7A5-E90F-4B40-9EF2-5686D81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24E-9E04-4DFF-8CDE-35851343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08D-1AD8-4500-9830-CD255D5B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F07D-B2F5-4E05-929F-3CCCD9831CF4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3FEF-C848-4C70-BB67-0A3BFC2147D4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402920" y="4005000"/>
            <a:ext cx="525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Prof. dr </a:t>
            </a:r>
            <a:r>
              <a:rPr b="1" i="1" lang="sr-Latn-CS" sz="3000" spc="-1" strike="noStrike">
                <a:solidFill>
                  <a:srgbClr val="ffff00"/>
                </a:solidFill>
                <a:latin typeface="Times New Roman"/>
              </a:rPr>
              <a:t>Zoran Veličkovi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49040" y="1701360"/>
            <a:ext cx="889308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ffff00"/>
                </a:solidFill>
                <a:latin typeface="Times New Roman"/>
              </a:rPr>
              <a:t>EPIDEMIOLOGIJA ZARAZNIH BOLES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Model toč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88880" y="1857240"/>
            <a:ext cx="6151680" cy="2829240"/>
            <a:chOff x="488880" y="1857240"/>
            <a:chExt cx="6151680" cy="2829240"/>
          </a:xfrm>
        </p:grpSpPr>
        <p:sp>
          <p:nvSpPr>
            <p:cNvPr id="219" name="_s51223"/>
            <p:cNvSpPr/>
            <p:nvPr/>
          </p:nvSpPr>
          <p:spPr>
            <a:xfrm>
              <a:off x="3297240" y="3143160"/>
              <a:ext cx="1542960" cy="1543320"/>
            </a:xfrm>
            <a:prstGeom prst="donut">
              <a:avLst>
                <a:gd name="adj" fmla="val 25000"/>
              </a:avLst>
            </a:prstGeom>
            <a:solidFill>
              <a:srgbClr val="3366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51224"/>
            <p:cNvSpPr/>
            <p:nvPr/>
          </p:nvSpPr>
          <p:spPr>
            <a:xfrm>
              <a:off x="6022800" y="2543040"/>
              <a:ext cx="617760" cy="685800"/>
            </a:xfr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Biološka sredi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51206"/>
            <p:cNvSpPr/>
            <p:nvPr/>
          </p:nvSpPr>
          <p:spPr>
            <a:xfrm>
              <a:off x="3683160" y="3529080"/>
              <a:ext cx="771480" cy="7714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51207"/>
            <p:cNvSpPr/>
            <p:nvPr/>
          </p:nvSpPr>
          <p:spPr>
            <a:xfrm>
              <a:off x="6022800" y="1857240"/>
              <a:ext cx="617760" cy="685800"/>
            </a:xfr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Čovek (genetski potencija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8880" y="2997360"/>
              <a:ext cx="215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Fizičko-himijska sredi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419280" y="3500280"/>
              <a:ext cx="29844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17920" y="3500280"/>
              <a:ext cx="28908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67280" y="4306680"/>
              <a:ext cx="144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>
            <a:off x="1835280" y="414972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27280" y="3357720"/>
            <a:ext cx="1440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378936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Socijalna sred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Model lan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1987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313992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9272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0360" y="3211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25639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347640" y="2301840"/>
            <a:ext cx="1079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54400" y="3584520"/>
            <a:ext cx="50472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67280" y="5156280"/>
            <a:ext cx="122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592600" y="3642840"/>
            <a:ext cx="505080" cy="1297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859280" y="2276640"/>
            <a:ext cx="115272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13572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zervo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89640" y="3122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ut šir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869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9080" y="50022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lazna i izlazna v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500220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ličina i virulencija k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200" y="287496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ispozicija i imunit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20952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reža uzročnosti ishemijske bolesti sr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2637000"/>
            <a:ext cx="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4941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37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0" idx="0"/>
            <a:endCxn id="250" idx="0"/>
          </p:cNvCxnSpPr>
          <p:nvPr/>
        </p:nvCxnSpPr>
        <p:spPr>
          <a:xfrm>
            <a:off x="4725720" y="1341000"/>
            <a:ext cx="10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55" name=""/>
          <p:cNvSpPr/>
          <p:nvPr/>
        </p:nvSpPr>
        <p:spPr>
          <a:xfrm flipH="1">
            <a:off x="3919680" y="3208320"/>
            <a:ext cx="28728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19680" y="363996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4076640"/>
            <a:ext cx="7128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5640" y="4365720"/>
            <a:ext cx="360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56000" y="458136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16360" y="4436640"/>
            <a:ext cx="360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076720" y="3933720"/>
            <a:ext cx="14292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5148360" y="3357720"/>
            <a:ext cx="7128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211640" y="3141720"/>
            <a:ext cx="57636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4787640" y="3141720"/>
            <a:ext cx="36036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788000" y="1628280"/>
            <a:ext cx="792000" cy="15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148360" y="2205000"/>
            <a:ext cx="1800000" cy="115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195880" y="3279240"/>
            <a:ext cx="223200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19640" y="3933720"/>
            <a:ext cx="252108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67360" y="4437000"/>
            <a:ext cx="2016000" cy="14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16360" y="4581360"/>
            <a:ext cx="216000" cy="194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564000" y="4581360"/>
            <a:ext cx="792000" cy="172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050920" y="4365720"/>
            <a:ext cx="1944720" cy="115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547640" y="4071960"/>
            <a:ext cx="237672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547640" y="2924280"/>
            <a:ext cx="237672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058920" y="1268280"/>
            <a:ext cx="115236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00720" y="1306440"/>
            <a:ext cx="0" cy="1873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1945800" y="1877760"/>
            <a:ext cx="208764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086360" y="2852280"/>
            <a:ext cx="414360" cy="13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00720" y="285264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7040" y="2847960"/>
            <a:ext cx="498600" cy="31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35640" y="3174840"/>
            <a:ext cx="7308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8720" y="3602160"/>
            <a:ext cx="0" cy="403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45280" y="4005360"/>
            <a:ext cx="16344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764240" y="4638600"/>
            <a:ext cx="57600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197240" y="4932360"/>
            <a:ext cx="547920" cy="9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3634920" y="4581000"/>
            <a:ext cx="55260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3487320" y="4080960"/>
            <a:ext cx="142920" cy="50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487680" y="3521160"/>
            <a:ext cx="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492360" y="3218040"/>
            <a:ext cx="21600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708360" y="2997000"/>
            <a:ext cx="35892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24360" y="2565000"/>
            <a:ext cx="5763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00720" y="256536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2565360"/>
            <a:ext cx="579600" cy="45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64240" y="3038400"/>
            <a:ext cx="131760" cy="495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795640" y="3546360"/>
            <a:ext cx="4680" cy="52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580000" y="4076640"/>
            <a:ext cx="21600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788000" y="4797360"/>
            <a:ext cx="79200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995280" y="5300640"/>
            <a:ext cx="79236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419640" y="2708280"/>
            <a:ext cx="50472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133800" y="3002040"/>
            <a:ext cx="285840" cy="393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7320" y="3405240"/>
            <a:ext cx="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7320" y="4129200"/>
            <a:ext cx="149400" cy="668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4797360"/>
            <a:ext cx="71892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492360" y="1773000"/>
            <a:ext cx="1008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0720" y="1773360"/>
            <a:ext cx="93492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776680" y="1989000"/>
            <a:ext cx="715680" cy="51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555640" y="2517840"/>
            <a:ext cx="215640" cy="71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3227400"/>
            <a:ext cx="0" cy="9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6000" y="4149720"/>
            <a:ext cx="215640" cy="93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5084640"/>
            <a:ext cx="927360" cy="9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3708360" y="5950080"/>
            <a:ext cx="11606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859280" y="5216400"/>
            <a:ext cx="1309680" cy="73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168960" y="4202280"/>
            <a:ext cx="34776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35640" y="1916280"/>
            <a:ext cx="86508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00720" y="2637000"/>
            <a:ext cx="216000" cy="79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6720" y="3429000"/>
            <a:ext cx="0" cy="758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8360" y="12016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ehanizmi zgrušavanja kr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9440" y="18018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epoznati fak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2472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24720" y="4221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shr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86520" y="5661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rvni priti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62420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Fizička ak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84360" y="630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nfekci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1520" y="56484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enetska sklo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3320" y="4379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asti u kr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9840" y="2924280"/>
            <a:ext cx="12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25178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uše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141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Uzra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12880" y="76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ekov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81480" y="692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sihosocijaln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gens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biološki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virusi, bakterije, rikecije, gljivice, protozoe 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višećelijski parazit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fizičk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mehanički, toplotni, jonizujući, ostali- sniženi il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višeni atmosferski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ritisak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– visinska ili kesonska boles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emijsk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metabolički ili endogeni, egzogeni hemijski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utritivn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psihološki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retnje, ucene, poniženja, mobing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fiziološka stanj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pubertet, menstruacija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omaćin</a:t>
            </a:r>
            <a:br>
              <a:rPr sz="3600"/>
            </a:br>
            <a:br>
              <a:rPr sz="14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asleđe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uzrast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pol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prethodna bolest (stanje)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rasna, nacionalna i verska pripadnost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bračno stanje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obrazovni nivo, zanimanje i socijalno –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ekonomski položaj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način života i ponašanja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Životna sredina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uhvata sveukupnost spoljnih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inilaca žive i nežive prirode koji deluju na određenu jedinku ili ekološku zajednicu</a:t>
            </a:r>
            <a:br>
              <a:rPr sz="3600"/>
            </a:br>
            <a:br>
              <a:rPr sz="36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biotska ili geofizička sred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obuhvata sve ono što čini neživu prirodu)</a:t>
            </a: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biotska ili biološko – socijalna sred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redstavljaju živa bića i odnosi koje ona međusobno uslovljavaju)</a:t>
            </a: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ekosistem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ine sva živa bića uz činioce nežive prir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Infektivni agens</a:t>
            </a:r>
            <a:br>
              <a:rPr sz="800"/>
            </a:b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800"/>
            </a:br>
            <a:br>
              <a:rPr sz="8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1. strogi (obligantni) paraziti -m. boginje, epid. meningit,  polne inf. (gonoreja, sifilis), besnilo itd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. ostaju neko vreme izvan, ali se ne razmnožavaju (velike i ovče boginje, tuberkuloza, difterija, šarlah)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3. ostaju živi i mogu se razmnožavati (trb. tifus, kolera, bacilarna dizenterija)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4. često se nalaze izvan organizma (stafilokok, streptokok itd.)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5. prelaze u otporne oblike - spore (tetanus, botulizam, gasna gangrena, antraks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atoge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sposobnost agensa da izazove manifestnu bolest)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linički oboleli (O) /agensu izloženi osetljivi (I) = O/I</a:t>
            </a:r>
            <a:br>
              <a:rPr sz="2800"/>
            </a:br>
            <a:br>
              <a:rPr sz="2800"/>
            </a:b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nfektiv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sposobnost prodiranja, održavanja i raznmožavanja) – lakoća kojom se bolest prenosi – kontagioznost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araženi (Z) / izloženi osetljivi (I) = Z/I</a:t>
            </a:r>
            <a:br>
              <a:rPr sz="2800"/>
            </a:br>
            <a:br>
              <a:rPr sz="2800"/>
            </a:b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irulenc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– stepen patogenosti odnosno sposobnost agensa da izazove manifestnu bolest u inficiranom domaćinu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linički oboleli (O) / ukupni broj zaraženih (Z) = O/Z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Faktori virulencije</a:t>
            </a:r>
            <a:br>
              <a:rPr sz="4400"/>
            </a:br>
            <a:br>
              <a:rPr sz="3600"/>
            </a:b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invaziv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oni koji agensu omogućuju adherenciju (prijanjanja) na tkiva, prodiranja u njih, razmnožavanje i širenje 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toksičnos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– izazivaju oštećenja tkiva domaćina pod dejstvom toksi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nfektivna doza ili inokulum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39640" y="1600200"/>
          <a:ext cx="8147160" cy="4513320"/>
        </p:xfrm>
        <a:graphic>
          <a:graphicData uri="http://schemas.openxmlformats.org/drawingml/2006/table">
            <a:tbl>
              <a:tblPr/>
              <a:tblGrid>
                <a:gridCol w="403236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ol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Minimalan broj k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bušni tif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monelozno trovanje hran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– 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cilarna dizenteri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iptosporidij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2 ci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32000" y="1413000"/>
            <a:ext cx="662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99cc"/>
                </a:solidFill>
                <a:latin typeface="Times New Roman"/>
              </a:rPr>
              <a:t>EPIDEMIJSKI PRO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Proces </a:t>
            </a:r>
            <a:r>
              <a:rPr b="0" lang="sr-Latn-CS" sz="3000" spc="-1" strike="noStrike">
                <a:solidFill>
                  <a:srgbClr val="ffff00"/>
                </a:solidFill>
                <a:latin typeface="Times New Roman"/>
              </a:rPr>
              <a:t>pojave</a:t>
            </a: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 bolesti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njeno </a:t>
            </a:r>
            <a:r>
              <a:rPr b="0" lang="sr-Latn-CS" sz="3000" spc="-1" strike="noStrike">
                <a:solidFill>
                  <a:srgbClr val="ffff00"/>
                </a:solidFill>
                <a:latin typeface="Times New Roman"/>
              </a:rPr>
              <a:t>širenje</a:t>
            </a: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Times New Roman"/>
              </a:rPr>
              <a:t>održavanje</a:t>
            </a: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Times New Roman"/>
              </a:rPr>
              <a:t>nestajanje</a:t>
            </a: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 u populaciji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Times New Roman"/>
              </a:rPr>
              <a:t>EPIDEMIOLOGIJA ZARAZNIH BOLES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518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Prirodni (hronološki) tok zarazne bolesti:</a:t>
            </a:r>
            <a:br>
              <a:rPr sz="3200"/>
            </a:br>
            <a:br>
              <a:rPr sz="2800"/>
            </a:b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inkubacio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prodromal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inkrement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period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acmis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ili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akme</a:t>
            </a:r>
            <a:br>
              <a:rPr sz="3200"/>
            </a:b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dekrement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period rekonvalescen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Spektar bolesti</a:t>
            </a:r>
            <a:r>
              <a:rPr b="0" lang="sr-Latn-C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e raspon njenog mogućeg ispoljavanja, od najblažih do najtežih oblika. Taj spektar se zove i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gradijent infekcije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 a definiše se kao odgovor domaćina na infekciju, koji se kreće od inaparentne do fatalne bolesti (</a:t>
            </a: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raspon kliničkih manifestacija bolest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)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zloženost, inficiranost i spektar bolesti 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(odn. Gradijent infekcije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612800"/>
          <a:ext cx="8218440" cy="3768840"/>
        </p:xfrm>
        <a:graphic>
          <a:graphicData uri="http://schemas.openxmlformats.org/drawingml/2006/table">
            <a:tbl>
              <a:tblPr/>
              <a:tblGrid>
                <a:gridCol w="1027080"/>
                <a:gridCol w="1131840"/>
                <a:gridCol w="922320"/>
                <a:gridCol w="1028880"/>
                <a:gridCol w="1027080"/>
                <a:gridCol w="1054080"/>
                <a:gridCol w="1000080"/>
                <a:gridCol w="1027080"/>
              </a:tblGrid>
              <a:tr h="8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zlože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izlož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zlož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icira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inficir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icir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ktar bolesti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parent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linički ispoljen (manifesta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meren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ž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ta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Na težinu kliničkog ispoljavanja utiču i:</a:t>
            </a:r>
            <a:br>
              <a:rPr sz="3600"/>
            </a:b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virulencij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soj odnosno biotip uzročnik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klasični tip v. kolere izaziva teži klinički oblik kolere)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uzra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obolelih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prisustvo nekog drugog poremećaja zdravlj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grip teže podnose osobe sa neki hroničnim obolenj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Za podrobnije razumevanje gradijenta infekcije treba definisati infekciju.</a:t>
            </a:r>
            <a:br>
              <a:rPr sz="2400"/>
            </a:br>
            <a:br>
              <a:rPr sz="2400"/>
            </a:b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Infekcija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redstavlja prodiranje, održavanje i razmnožavanje infektivnog agensa u organizmu čoveka ili životinje. Ona nije što i infektivna bolest. Infekcija može biti inaparentna i manifestna.</a:t>
            </a:r>
            <a:br>
              <a:rPr sz="2400"/>
            </a:br>
            <a:br>
              <a:rPr sz="2400"/>
            </a:b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Inaparentna infekcij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se odlikuje odsustvom subjektivnih (simptomi) i objektivnih (znaci) manifestacija bolesti. To su stanja poznata kao latentne, bezsimptomne, zbrisane, skrivene, neprimetne, neme ili supkliničke infekcije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ada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prividno zdrave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takve osobe predstavljaju veliku epidemiološku opasnost.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Manifestna infekcij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predstavlja uočljiv, tj. klinički manje ili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više jasno izražen oblik bolesti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Jedna ista bolest može imati različite kliničke manifestacije bolesti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ni se obeležavaju kao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blag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lak),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umeren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umereno težak),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težak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fatalan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Gradijent infekcije u zavisnosti od uzročnika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Izvor: Mausn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&amp; Krame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3320" y="1967040"/>
            <a:ext cx="190440" cy="3355920"/>
          </a:xfrm>
          <a:custGeom>
            <a:avLst/>
            <a:gdLst/>
            <a:ahLst/>
            <a:rect l="l" t="t" r="r" b="b"/>
            <a:pathLst>
              <a:path w="120" h="2114">
                <a:moveTo>
                  <a:pt x="0" y="2114"/>
                </a:moveTo>
                <a:lnTo>
                  <a:pt x="120" y="2008"/>
                </a:lnTo>
                <a:lnTo>
                  <a:pt x="120" y="0"/>
                </a:lnTo>
                <a:lnTo>
                  <a:pt x="0" y="105"/>
                </a:lnTo>
                <a:lnTo>
                  <a:pt x="0" y="21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3320" y="5154480"/>
            <a:ext cx="5200920" cy="168480"/>
          </a:xfrm>
          <a:custGeom>
            <a:avLst/>
            <a:gdLst/>
            <a:ahLst/>
            <a:rect l="l" t="t" r="r" b="b"/>
            <a:pathLst>
              <a:path w="3276" h="106">
                <a:moveTo>
                  <a:pt x="0" y="106"/>
                </a:moveTo>
                <a:lnTo>
                  <a:pt x="3156" y="106"/>
                </a:lnTo>
                <a:lnTo>
                  <a:pt x="3276" y="0"/>
                </a:lnTo>
                <a:lnTo>
                  <a:pt x="120" y="0"/>
                </a:lnTo>
                <a:lnTo>
                  <a:pt x="0" y="1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93760" y="1967040"/>
            <a:ext cx="501048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03320" y="1967040"/>
            <a:ext cx="190440" cy="3355920"/>
          </a:xfrm>
          <a:custGeom>
            <a:avLst/>
            <a:gdLst/>
            <a:ahLst/>
            <a:rect l="l" t="t" r="r" b="b"/>
            <a:pathLst>
              <a:path w="20" h="320">
                <a:moveTo>
                  <a:pt x="0" y="320"/>
                </a:moveTo>
                <a:lnTo>
                  <a:pt x="20" y="304"/>
                </a:lnTo>
                <a:lnTo>
                  <a:pt x="2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03400" y="1967040"/>
            <a:ext cx="200160" cy="3355920"/>
          </a:xfrm>
          <a:custGeom>
            <a:avLst/>
            <a:gdLst/>
            <a:ahLst/>
            <a:rect l="l" t="t" r="r" b="b"/>
            <a:pathLst>
              <a:path w="21" h="320">
                <a:moveTo>
                  <a:pt x="0" y="320"/>
                </a:moveTo>
                <a:lnTo>
                  <a:pt x="21" y="304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03840" y="1967040"/>
            <a:ext cx="199800" cy="3355920"/>
          </a:xfrm>
          <a:custGeom>
            <a:avLst/>
            <a:gdLst/>
            <a:ahLst/>
            <a:rect l="l" t="t" r="r" b="b"/>
            <a:pathLst>
              <a:path w="21" h="320">
                <a:moveTo>
                  <a:pt x="0" y="320"/>
                </a:moveTo>
                <a:lnTo>
                  <a:pt x="21" y="304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03920" y="1967040"/>
            <a:ext cx="199800" cy="3355920"/>
          </a:xfrm>
          <a:custGeom>
            <a:avLst/>
            <a:gdLst/>
            <a:ahLst/>
            <a:rect l="l" t="t" r="r" b="b"/>
            <a:pathLst>
              <a:path w="21" h="320">
                <a:moveTo>
                  <a:pt x="0" y="320"/>
                </a:moveTo>
                <a:lnTo>
                  <a:pt x="21" y="304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904000" y="1967040"/>
            <a:ext cx="199800" cy="3355920"/>
          </a:xfrm>
          <a:custGeom>
            <a:avLst/>
            <a:gdLst/>
            <a:ahLst/>
            <a:rect l="l" t="t" r="r" b="b"/>
            <a:pathLst>
              <a:path w="21" h="320">
                <a:moveTo>
                  <a:pt x="0" y="320"/>
                </a:moveTo>
                <a:lnTo>
                  <a:pt x="21" y="304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13440" y="1967040"/>
            <a:ext cx="190800" cy="3355920"/>
          </a:xfrm>
          <a:custGeom>
            <a:avLst/>
            <a:gdLst/>
            <a:ahLst/>
            <a:rect l="l" t="t" r="r" b="b"/>
            <a:pathLst>
              <a:path w="20" h="320">
                <a:moveTo>
                  <a:pt x="0" y="320"/>
                </a:moveTo>
                <a:lnTo>
                  <a:pt x="20" y="304"/>
                </a:lnTo>
                <a:lnTo>
                  <a:pt x="2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03320" y="1967040"/>
            <a:ext cx="190440" cy="3355920"/>
          </a:xfrm>
          <a:custGeom>
            <a:avLst/>
            <a:gdLst/>
            <a:ahLst/>
            <a:rect l="l" t="t" r="r" b="b"/>
            <a:pathLst>
              <a:path w="120" h="2114">
                <a:moveTo>
                  <a:pt x="120" y="0"/>
                </a:moveTo>
                <a:lnTo>
                  <a:pt x="0" y="105"/>
                </a:lnTo>
                <a:lnTo>
                  <a:pt x="0" y="2114"/>
                </a:lnTo>
                <a:lnTo>
                  <a:pt x="120" y="2008"/>
                </a:lnTo>
                <a:lnTo>
                  <a:pt x="120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3320" y="5154480"/>
            <a:ext cx="5200920" cy="168480"/>
          </a:xfrm>
          <a:custGeom>
            <a:avLst/>
            <a:gdLst/>
            <a:ahLst/>
            <a:rect l="l" t="t" r="r" b="b"/>
            <a:pathLst>
              <a:path w="3276" h="106">
                <a:moveTo>
                  <a:pt x="0" y="106"/>
                </a:moveTo>
                <a:lnTo>
                  <a:pt x="3156" y="106"/>
                </a:lnTo>
                <a:lnTo>
                  <a:pt x="3276" y="0"/>
                </a:lnTo>
                <a:lnTo>
                  <a:pt x="120" y="0"/>
                </a:lnTo>
                <a:lnTo>
                  <a:pt x="0" y="106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93760" y="1967040"/>
            <a:ext cx="5010480" cy="318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03320" y="4714920"/>
            <a:ext cx="542880" cy="156960"/>
          </a:xfrm>
          <a:custGeom>
            <a:avLst/>
            <a:gdLst/>
            <a:ahLst/>
            <a:rect l="l" t="t" r="r" b="b"/>
            <a:pathLst>
              <a:path w="342" h="99">
                <a:moveTo>
                  <a:pt x="0" y="99"/>
                </a:moveTo>
                <a:lnTo>
                  <a:pt x="216" y="99"/>
                </a:lnTo>
                <a:lnTo>
                  <a:pt x="342" y="0"/>
                </a:lnTo>
                <a:lnTo>
                  <a:pt x="120" y="0"/>
                </a:lnTo>
                <a:lnTo>
                  <a:pt x="0" y="99"/>
                </a:lnTo>
                <a:close/>
              </a:path>
            </a:pathLst>
          </a:cu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03320" y="4871880"/>
            <a:ext cx="343080" cy="26208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46400" y="4714920"/>
            <a:ext cx="199800" cy="419040"/>
          </a:xfrm>
          <a:custGeom>
            <a:avLst/>
            <a:gdLst/>
            <a:ahLst/>
            <a:rect l="l" t="t" r="r" b="b"/>
            <a:pathLst>
              <a:path w="126" h="264">
                <a:moveTo>
                  <a:pt x="126" y="158"/>
                </a:moveTo>
                <a:lnTo>
                  <a:pt x="0" y="264"/>
                </a:lnTo>
                <a:lnTo>
                  <a:pt x="0" y="99"/>
                </a:lnTo>
                <a:lnTo>
                  <a:pt x="126" y="0"/>
                </a:lnTo>
                <a:lnTo>
                  <a:pt x="126" y="158"/>
                </a:lnTo>
                <a:close/>
              </a:path>
            </a:pathLst>
          </a:cu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46400" y="4714920"/>
            <a:ext cx="4857840" cy="156960"/>
          </a:xfrm>
          <a:custGeom>
            <a:avLst/>
            <a:gdLst/>
            <a:ahLst/>
            <a:rect l="l" t="t" r="r" b="b"/>
            <a:pathLst>
              <a:path w="3060" h="99">
                <a:moveTo>
                  <a:pt x="0" y="99"/>
                </a:moveTo>
                <a:lnTo>
                  <a:pt x="2940" y="99"/>
                </a:lnTo>
                <a:lnTo>
                  <a:pt x="3060" y="0"/>
                </a:lnTo>
                <a:lnTo>
                  <a:pt x="126" y="0"/>
                </a:lnTo>
                <a:lnTo>
                  <a:pt x="0" y="99"/>
                </a:lnTo>
                <a:close/>
              </a:path>
            </a:pathLst>
          </a:cu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46400" y="4871880"/>
            <a:ext cx="4667040" cy="262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13440" y="4714920"/>
            <a:ext cx="190800" cy="419040"/>
          </a:xfrm>
          <a:custGeom>
            <a:avLst/>
            <a:gdLst/>
            <a:ahLst/>
            <a:rect l="l" t="t" r="r" b="b"/>
            <a:pathLst>
              <a:path w="120" h="264">
                <a:moveTo>
                  <a:pt x="120" y="158"/>
                </a:moveTo>
                <a:lnTo>
                  <a:pt x="0" y="264"/>
                </a:lnTo>
                <a:lnTo>
                  <a:pt x="0" y="99"/>
                </a:lnTo>
                <a:lnTo>
                  <a:pt x="120" y="0"/>
                </a:lnTo>
                <a:lnTo>
                  <a:pt x="120" y="158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3320" y="4075200"/>
            <a:ext cx="447840" cy="166680"/>
          </a:xfrm>
          <a:custGeom>
            <a:avLst/>
            <a:gdLst/>
            <a:ahLst/>
            <a:rect l="l" t="t" r="r" b="b"/>
            <a:pathLst>
              <a:path w="282" h="105">
                <a:moveTo>
                  <a:pt x="0" y="105"/>
                </a:moveTo>
                <a:lnTo>
                  <a:pt x="156" y="105"/>
                </a:lnTo>
                <a:lnTo>
                  <a:pt x="282" y="0"/>
                </a:lnTo>
                <a:lnTo>
                  <a:pt x="120" y="0"/>
                </a:lnTo>
                <a:lnTo>
                  <a:pt x="0" y="105"/>
                </a:lnTo>
                <a:close/>
              </a:path>
            </a:pathLst>
          </a:custGeom>
          <a:solidFill>
            <a:srgbClr val="00bfb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03320" y="4241880"/>
            <a:ext cx="247680" cy="2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51000" y="4075200"/>
            <a:ext cx="200160" cy="419040"/>
          </a:xfrm>
          <a:custGeom>
            <a:avLst/>
            <a:gdLst/>
            <a:ahLst/>
            <a:rect l="l" t="t" r="r" b="b"/>
            <a:pathLst>
              <a:path w="126" h="264">
                <a:moveTo>
                  <a:pt x="126" y="158"/>
                </a:moveTo>
                <a:lnTo>
                  <a:pt x="0" y="264"/>
                </a:lnTo>
                <a:lnTo>
                  <a:pt x="0" y="105"/>
                </a:lnTo>
                <a:lnTo>
                  <a:pt x="126" y="0"/>
                </a:lnTo>
                <a:lnTo>
                  <a:pt x="126" y="15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51000" y="4075200"/>
            <a:ext cx="600120" cy="166680"/>
          </a:xfrm>
          <a:custGeom>
            <a:avLst/>
            <a:gdLst/>
            <a:ahLst/>
            <a:rect l="l" t="t" r="r" b="b"/>
            <a:pathLst>
              <a:path w="378" h="105">
                <a:moveTo>
                  <a:pt x="0" y="105"/>
                </a:moveTo>
                <a:lnTo>
                  <a:pt x="252" y="105"/>
                </a:lnTo>
                <a:lnTo>
                  <a:pt x="378" y="0"/>
                </a:lnTo>
                <a:lnTo>
                  <a:pt x="126" y="0"/>
                </a:lnTo>
                <a:lnTo>
                  <a:pt x="0" y="105"/>
                </a:lnTo>
                <a:close/>
              </a:path>
            </a:pathLst>
          </a:custGeom>
          <a:solidFill>
            <a:srgbClr val="5c359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51000" y="4241880"/>
            <a:ext cx="399960" cy="2523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0960" y="4075200"/>
            <a:ext cx="200160" cy="419040"/>
          </a:xfrm>
          <a:custGeom>
            <a:avLst/>
            <a:gdLst/>
            <a:ahLst/>
            <a:rect l="l" t="t" r="r" b="b"/>
            <a:pathLst>
              <a:path w="126" h="264">
                <a:moveTo>
                  <a:pt x="126" y="158"/>
                </a:moveTo>
                <a:lnTo>
                  <a:pt x="0" y="264"/>
                </a:lnTo>
                <a:lnTo>
                  <a:pt x="0" y="105"/>
                </a:lnTo>
                <a:lnTo>
                  <a:pt x="126" y="0"/>
                </a:lnTo>
                <a:lnTo>
                  <a:pt x="126" y="158"/>
                </a:lnTo>
                <a:close/>
              </a:path>
            </a:pathLst>
          </a:custGeom>
          <a:solidFill>
            <a:srgbClr val="3e23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0960" y="4075200"/>
            <a:ext cx="2705400" cy="166680"/>
          </a:xfrm>
          <a:custGeom>
            <a:avLst/>
            <a:gdLst/>
            <a:ahLst/>
            <a:rect l="l" t="t" r="r" b="b"/>
            <a:pathLst>
              <a:path w="1704" h="105">
                <a:moveTo>
                  <a:pt x="0" y="105"/>
                </a:moveTo>
                <a:lnTo>
                  <a:pt x="1578" y="105"/>
                </a:lnTo>
                <a:lnTo>
                  <a:pt x="1704" y="0"/>
                </a:lnTo>
                <a:lnTo>
                  <a:pt x="126" y="0"/>
                </a:lnTo>
                <a:lnTo>
                  <a:pt x="0" y="105"/>
                </a:lnTo>
                <a:close/>
              </a:path>
            </a:pathLst>
          </a:custGeom>
          <a:solidFill>
            <a:srgbClr val="659db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50960" y="4241880"/>
            <a:ext cx="2505240" cy="2523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56200" y="4075200"/>
            <a:ext cx="200160" cy="419040"/>
          </a:xfrm>
          <a:custGeom>
            <a:avLst/>
            <a:gdLst/>
            <a:ahLst/>
            <a:rect l="l" t="t" r="r" b="b"/>
            <a:pathLst>
              <a:path w="126" h="264">
                <a:moveTo>
                  <a:pt x="126" y="158"/>
                </a:moveTo>
                <a:lnTo>
                  <a:pt x="0" y="264"/>
                </a:lnTo>
                <a:lnTo>
                  <a:pt x="0" y="105"/>
                </a:lnTo>
                <a:lnTo>
                  <a:pt x="126" y="0"/>
                </a:lnTo>
                <a:lnTo>
                  <a:pt x="126" y="158"/>
                </a:lnTo>
                <a:close/>
              </a:path>
            </a:pathLst>
          </a:custGeom>
          <a:solidFill>
            <a:srgbClr val="43697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56200" y="4075200"/>
            <a:ext cx="1447920" cy="166680"/>
          </a:xfrm>
          <a:custGeom>
            <a:avLst/>
            <a:gdLst/>
            <a:ahLst/>
            <a:rect l="l" t="t" r="r" b="b"/>
            <a:pathLst>
              <a:path w="912" h="105">
                <a:moveTo>
                  <a:pt x="0" y="105"/>
                </a:moveTo>
                <a:lnTo>
                  <a:pt x="792" y="105"/>
                </a:lnTo>
                <a:lnTo>
                  <a:pt x="912" y="0"/>
                </a:lnTo>
                <a:lnTo>
                  <a:pt x="126" y="0"/>
                </a:lnTo>
                <a:lnTo>
                  <a:pt x="0" y="105"/>
                </a:lnTo>
                <a:close/>
              </a:path>
            </a:pathLst>
          </a:cu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6200" y="4241880"/>
            <a:ext cx="1257120" cy="2523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13320" y="4075200"/>
            <a:ext cx="190800" cy="419040"/>
          </a:xfrm>
          <a:custGeom>
            <a:avLst/>
            <a:gdLst/>
            <a:ahLst/>
            <a:rect l="l" t="t" r="r" b="b"/>
            <a:pathLst>
              <a:path w="120" h="264">
                <a:moveTo>
                  <a:pt x="120" y="158"/>
                </a:moveTo>
                <a:lnTo>
                  <a:pt x="0" y="264"/>
                </a:lnTo>
                <a:lnTo>
                  <a:pt x="0" y="105"/>
                </a:lnTo>
                <a:lnTo>
                  <a:pt x="120" y="0"/>
                </a:lnTo>
                <a:lnTo>
                  <a:pt x="120" y="158"/>
                </a:lnTo>
                <a:close/>
              </a:path>
            </a:pathLst>
          </a:cu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13320" y="4075200"/>
            <a:ext cx="790920" cy="166680"/>
          </a:xfrm>
          <a:custGeom>
            <a:avLst/>
            <a:gdLst/>
            <a:ahLst/>
            <a:rect l="l" t="t" r="r" b="b"/>
            <a:pathLst>
              <a:path w="498" h="105">
                <a:moveTo>
                  <a:pt x="0" y="105"/>
                </a:moveTo>
                <a:lnTo>
                  <a:pt x="378" y="105"/>
                </a:lnTo>
                <a:lnTo>
                  <a:pt x="498" y="0"/>
                </a:lnTo>
                <a:lnTo>
                  <a:pt x="120" y="0"/>
                </a:lnTo>
                <a:lnTo>
                  <a:pt x="0" y="105"/>
                </a:lnTo>
                <a:close/>
              </a:path>
            </a:pathLst>
          </a:cu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13320" y="4241880"/>
            <a:ext cx="60012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13440" y="4075200"/>
            <a:ext cx="190800" cy="419040"/>
          </a:xfrm>
          <a:custGeom>
            <a:avLst/>
            <a:gdLst/>
            <a:ahLst/>
            <a:rect l="l" t="t" r="r" b="b"/>
            <a:pathLst>
              <a:path w="120" h="264">
                <a:moveTo>
                  <a:pt x="120" y="158"/>
                </a:moveTo>
                <a:lnTo>
                  <a:pt x="0" y="264"/>
                </a:lnTo>
                <a:lnTo>
                  <a:pt x="0" y="105"/>
                </a:lnTo>
                <a:lnTo>
                  <a:pt x="120" y="0"/>
                </a:lnTo>
                <a:lnTo>
                  <a:pt x="120" y="158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03320" y="3435480"/>
            <a:ext cx="2695680" cy="166680"/>
          </a:xfrm>
          <a:custGeom>
            <a:avLst/>
            <a:gdLst/>
            <a:ahLst/>
            <a:rect l="l" t="t" r="r" b="b"/>
            <a:pathLst>
              <a:path w="1698" h="105">
                <a:moveTo>
                  <a:pt x="0" y="105"/>
                </a:moveTo>
                <a:lnTo>
                  <a:pt x="1578" y="105"/>
                </a:lnTo>
                <a:lnTo>
                  <a:pt x="1698" y="0"/>
                </a:lnTo>
                <a:lnTo>
                  <a:pt x="120" y="0"/>
                </a:lnTo>
                <a:lnTo>
                  <a:pt x="0" y="105"/>
                </a:lnTo>
                <a:close/>
              </a:path>
            </a:pathLst>
          </a:custGeom>
          <a:solidFill>
            <a:srgbClr val="00bfb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3320" y="3602160"/>
            <a:ext cx="2505240" cy="2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08560" y="3435480"/>
            <a:ext cx="190440" cy="419040"/>
          </a:xfrm>
          <a:custGeom>
            <a:avLst/>
            <a:gdLst/>
            <a:ahLst/>
            <a:rect l="l" t="t" r="r" b="b"/>
            <a:pathLst>
              <a:path w="120" h="264">
                <a:moveTo>
                  <a:pt x="120" y="158"/>
                </a:moveTo>
                <a:lnTo>
                  <a:pt x="0" y="264"/>
                </a:lnTo>
                <a:lnTo>
                  <a:pt x="0" y="105"/>
                </a:lnTo>
                <a:lnTo>
                  <a:pt x="120" y="0"/>
                </a:lnTo>
                <a:lnTo>
                  <a:pt x="120" y="15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08560" y="3435480"/>
            <a:ext cx="1200240" cy="166680"/>
          </a:xfrm>
          <a:custGeom>
            <a:avLst/>
            <a:gdLst/>
            <a:ahLst/>
            <a:rect l="l" t="t" r="r" b="b"/>
            <a:pathLst>
              <a:path w="756" h="105">
                <a:moveTo>
                  <a:pt x="0" y="105"/>
                </a:moveTo>
                <a:lnTo>
                  <a:pt x="630" y="105"/>
                </a:lnTo>
                <a:lnTo>
                  <a:pt x="756" y="0"/>
                </a:lnTo>
                <a:lnTo>
                  <a:pt x="120" y="0"/>
                </a:lnTo>
                <a:lnTo>
                  <a:pt x="0" y="105"/>
                </a:lnTo>
                <a:close/>
              </a:path>
            </a:pathLst>
          </a:custGeom>
          <a:solidFill>
            <a:srgbClr val="5c359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08560" y="3602160"/>
            <a:ext cx="1000080" cy="2523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08640" y="3435480"/>
            <a:ext cx="200160" cy="419040"/>
          </a:xfrm>
          <a:custGeom>
            <a:avLst/>
            <a:gdLst/>
            <a:ahLst/>
            <a:rect l="l" t="t" r="r" b="b"/>
            <a:pathLst>
              <a:path w="126" h="264">
                <a:moveTo>
                  <a:pt x="126" y="158"/>
                </a:moveTo>
                <a:lnTo>
                  <a:pt x="0" y="264"/>
                </a:lnTo>
                <a:lnTo>
                  <a:pt x="0" y="105"/>
                </a:lnTo>
                <a:lnTo>
                  <a:pt x="126" y="0"/>
                </a:lnTo>
                <a:lnTo>
                  <a:pt x="126" y="158"/>
                </a:lnTo>
                <a:close/>
              </a:path>
            </a:pathLst>
          </a:custGeom>
          <a:solidFill>
            <a:srgbClr val="3e23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08640" y="3435480"/>
            <a:ext cx="695160" cy="166680"/>
          </a:xfrm>
          <a:custGeom>
            <a:avLst/>
            <a:gdLst/>
            <a:ahLst/>
            <a:rect l="l" t="t" r="r" b="b"/>
            <a:pathLst>
              <a:path w="438" h="105">
                <a:moveTo>
                  <a:pt x="0" y="105"/>
                </a:moveTo>
                <a:lnTo>
                  <a:pt x="312" y="105"/>
                </a:lnTo>
                <a:lnTo>
                  <a:pt x="438" y="0"/>
                </a:lnTo>
                <a:lnTo>
                  <a:pt x="126" y="0"/>
                </a:lnTo>
                <a:lnTo>
                  <a:pt x="0" y="105"/>
                </a:lnTo>
                <a:close/>
              </a:path>
            </a:pathLst>
          </a:custGeom>
          <a:solidFill>
            <a:srgbClr val="659db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08640" y="3602160"/>
            <a:ext cx="495360" cy="2523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04000" y="3435480"/>
            <a:ext cx="199800" cy="419040"/>
          </a:xfrm>
          <a:custGeom>
            <a:avLst/>
            <a:gdLst/>
            <a:ahLst/>
            <a:rect l="l" t="t" r="r" b="b"/>
            <a:pathLst>
              <a:path w="126" h="264">
                <a:moveTo>
                  <a:pt x="126" y="158"/>
                </a:moveTo>
                <a:lnTo>
                  <a:pt x="0" y="264"/>
                </a:lnTo>
                <a:lnTo>
                  <a:pt x="0" y="105"/>
                </a:lnTo>
                <a:lnTo>
                  <a:pt x="126" y="0"/>
                </a:lnTo>
                <a:lnTo>
                  <a:pt x="126" y="158"/>
                </a:lnTo>
                <a:close/>
              </a:path>
            </a:pathLst>
          </a:custGeom>
          <a:solidFill>
            <a:srgbClr val="43697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3435480"/>
            <a:ext cx="704880" cy="166680"/>
          </a:xfrm>
          <a:custGeom>
            <a:avLst/>
            <a:gdLst/>
            <a:ahLst/>
            <a:rect l="l" t="t" r="r" b="b"/>
            <a:pathLst>
              <a:path w="444" h="105">
                <a:moveTo>
                  <a:pt x="0" y="105"/>
                </a:moveTo>
                <a:lnTo>
                  <a:pt x="318" y="105"/>
                </a:lnTo>
                <a:lnTo>
                  <a:pt x="444" y="0"/>
                </a:lnTo>
                <a:lnTo>
                  <a:pt x="126" y="0"/>
                </a:lnTo>
                <a:lnTo>
                  <a:pt x="0" y="105"/>
                </a:lnTo>
                <a:close/>
              </a:path>
            </a:pathLst>
          </a:cu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04000" y="3602160"/>
            <a:ext cx="504720" cy="2523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408720" y="3435480"/>
            <a:ext cx="200160" cy="419040"/>
          </a:xfrm>
          <a:custGeom>
            <a:avLst/>
            <a:gdLst/>
            <a:ahLst/>
            <a:rect l="l" t="t" r="r" b="b"/>
            <a:pathLst>
              <a:path w="126" h="264">
                <a:moveTo>
                  <a:pt x="126" y="158"/>
                </a:moveTo>
                <a:lnTo>
                  <a:pt x="0" y="264"/>
                </a:lnTo>
                <a:lnTo>
                  <a:pt x="0" y="105"/>
                </a:lnTo>
                <a:lnTo>
                  <a:pt x="126" y="0"/>
                </a:lnTo>
                <a:lnTo>
                  <a:pt x="126" y="158"/>
                </a:lnTo>
                <a:close/>
              </a:path>
            </a:pathLst>
          </a:cu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08720" y="3435480"/>
            <a:ext cx="695520" cy="166680"/>
          </a:xfrm>
          <a:custGeom>
            <a:avLst/>
            <a:gdLst/>
            <a:ahLst/>
            <a:rect l="l" t="t" r="r" b="b"/>
            <a:pathLst>
              <a:path w="438" h="105">
                <a:moveTo>
                  <a:pt x="0" y="105"/>
                </a:moveTo>
                <a:lnTo>
                  <a:pt x="318" y="105"/>
                </a:lnTo>
                <a:lnTo>
                  <a:pt x="438" y="0"/>
                </a:lnTo>
                <a:lnTo>
                  <a:pt x="126" y="0"/>
                </a:lnTo>
                <a:lnTo>
                  <a:pt x="0" y="105"/>
                </a:lnTo>
                <a:close/>
              </a:path>
            </a:pathLst>
          </a:cu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08720" y="3602160"/>
            <a:ext cx="50472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13440" y="3435480"/>
            <a:ext cx="190800" cy="419040"/>
          </a:xfrm>
          <a:custGeom>
            <a:avLst/>
            <a:gdLst/>
            <a:ahLst/>
            <a:rect l="l" t="t" r="r" b="b"/>
            <a:pathLst>
              <a:path w="120" h="264">
                <a:moveTo>
                  <a:pt x="120" y="158"/>
                </a:moveTo>
                <a:lnTo>
                  <a:pt x="0" y="264"/>
                </a:lnTo>
                <a:lnTo>
                  <a:pt x="0" y="105"/>
                </a:lnTo>
                <a:lnTo>
                  <a:pt x="120" y="0"/>
                </a:lnTo>
                <a:lnTo>
                  <a:pt x="120" y="158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3320" y="5322960"/>
            <a:ext cx="5010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332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0340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0384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0392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0400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1344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64800" y="545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1700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1708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1752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1760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88520" y="54594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6840" y="4869000"/>
            <a:ext cx="8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v.besni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0920" y="4221000"/>
            <a:ext cx="152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v.malih bogi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7080" y="3557520"/>
            <a:ext cx="169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bacil tuberkulo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7440" y="3057480"/>
            <a:ext cx="1655640" cy="145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304040" y="3151080"/>
            <a:ext cx="10476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466400" y="309888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inaparent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304040" y="3435480"/>
            <a:ext cx="104760" cy="1141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65680" y="338292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bla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04040" y="3718080"/>
            <a:ext cx="104760" cy="1155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36655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umereno tež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4040" y="4000680"/>
            <a:ext cx="104760" cy="1155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467840" y="3949560"/>
            <a:ext cx="132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težak nefata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04040" y="4284720"/>
            <a:ext cx="10476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66400" y="423216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ta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običajeni gradijent infekcije 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men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tokom vremen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lepra i sifilis su u prošlosti imale veoma tešku kliničku sliku).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mene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zahvaljujući vakcinacij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male boginje kod vakcinisanih imaju blag oblik).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azličitost i u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pojedinim delovima svet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m. boginje u razvijenom svetu imaju blažu kliničku sliku i letalitet od 0.2-0.3%, tj 100 puta niže nego u zemljama u razvoju, posebno onde gde vlada neuhranjenost i nedostatak vitamina 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Fenomen ledenog breg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značava odnos ukupnog obolevanja koji otkriva ili ne otkriva zdravstvena služba.</a:t>
            </a:r>
            <a:br>
              <a:rPr sz="28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ziva se i “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ajkulino pera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” i “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uvo nilskog kon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”.</a:t>
            </a:r>
            <a:br>
              <a:rPr sz="28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jveći broj obolelih ne biva evidentiran. 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jveći deo “podvodnog dela ledenog brega”:</a:t>
            </a:r>
            <a:br>
              <a:rPr sz="28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slučajevi koji nisu dospeli do lekar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osobe sa lakšom kl. slikom ili blagom simptomatologijom koje nisu tražile pomoć)</a:t>
            </a:r>
            <a:br>
              <a:rPr sz="28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pregledani bolesnic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ali im tačna dijagnoza nije postavljena ili nije zabeleže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Fenomen ledenog bre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11280" y="2492280"/>
            <a:ext cx="799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42920" y="4581360"/>
            <a:ext cx="7185240" cy="543240"/>
          </a:xfrm>
          <a:custGeom>
            <a:avLst/>
            <a:gdLst/>
            <a:ahLst/>
            <a:rect l="l" t="t" r="r" b="b"/>
            <a:pathLst>
              <a:path w="4526" h="312">
                <a:moveTo>
                  <a:pt x="0" y="189"/>
                </a:moveTo>
                <a:cubicBezTo>
                  <a:pt x="119" y="180"/>
                  <a:pt x="186" y="182"/>
                  <a:pt x="288" y="147"/>
                </a:cubicBezTo>
                <a:cubicBezTo>
                  <a:pt x="997" y="175"/>
                  <a:pt x="1674" y="195"/>
                  <a:pt x="2400" y="202"/>
                </a:cubicBezTo>
                <a:cubicBezTo>
                  <a:pt x="2505" y="198"/>
                  <a:pt x="2611" y="197"/>
                  <a:pt x="2716" y="189"/>
                </a:cubicBezTo>
                <a:cubicBezTo>
                  <a:pt x="2858" y="178"/>
                  <a:pt x="2635" y="166"/>
                  <a:pt x="2812" y="161"/>
                </a:cubicBezTo>
                <a:cubicBezTo>
                  <a:pt x="3109" y="152"/>
                  <a:pt x="3406" y="152"/>
                  <a:pt x="3703" y="147"/>
                </a:cubicBezTo>
                <a:cubicBezTo>
                  <a:pt x="3712" y="138"/>
                  <a:pt x="3726" y="132"/>
                  <a:pt x="3731" y="120"/>
                </a:cubicBezTo>
                <a:cubicBezTo>
                  <a:pt x="3776" y="0"/>
                  <a:pt x="3678" y="31"/>
                  <a:pt x="3868" y="51"/>
                </a:cubicBezTo>
                <a:cubicBezTo>
                  <a:pt x="3920" y="64"/>
                  <a:pt x="3954" y="92"/>
                  <a:pt x="4005" y="106"/>
                </a:cubicBezTo>
                <a:cubicBezTo>
                  <a:pt x="4042" y="116"/>
                  <a:pt x="4115" y="134"/>
                  <a:pt x="4115" y="134"/>
                </a:cubicBezTo>
                <a:cubicBezTo>
                  <a:pt x="4133" y="148"/>
                  <a:pt x="4149" y="164"/>
                  <a:pt x="4169" y="175"/>
                </a:cubicBezTo>
                <a:cubicBezTo>
                  <a:pt x="4182" y="182"/>
                  <a:pt x="4200" y="180"/>
                  <a:pt x="4211" y="189"/>
                </a:cubicBezTo>
                <a:cubicBezTo>
                  <a:pt x="4228" y="203"/>
                  <a:pt x="4237" y="226"/>
                  <a:pt x="4252" y="243"/>
                </a:cubicBezTo>
                <a:cubicBezTo>
                  <a:pt x="4289" y="287"/>
                  <a:pt x="4289" y="282"/>
                  <a:pt x="4334" y="312"/>
                </a:cubicBezTo>
                <a:cubicBezTo>
                  <a:pt x="4371" y="303"/>
                  <a:pt x="4407" y="294"/>
                  <a:pt x="4444" y="285"/>
                </a:cubicBezTo>
                <a:cubicBezTo>
                  <a:pt x="4476" y="277"/>
                  <a:pt x="4481" y="230"/>
                  <a:pt x="4499" y="202"/>
                </a:cubicBezTo>
                <a:cubicBezTo>
                  <a:pt x="4506" y="191"/>
                  <a:pt x="4517" y="184"/>
                  <a:pt x="4526" y="1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44720" y="5006880"/>
            <a:ext cx="7184880" cy="465120"/>
          </a:xfrm>
          <a:custGeom>
            <a:avLst/>
            <a:gdLst/>
            <a:ahLst/>
            <a:rect l="l" t="t" r="r" b="b"/>
            <a:pathLst>
              <a:path w="4526" h="293">
                <a:moveTo>
                  <a:pt x="0" y="192"/>
                </a:moveTo>
                <a:cubicBezTo>
                  <a:pt x="28" y="183"/>
                  <a:pt x="55" y="174"/>
                  <a:pt x="83" y="165"/>
                </a:cubicBezTo>
                <a:cubicBezTo>
                  <a:pt x="95" y="161"/>
                  <a:pt x="99" y="144"/>
                  <a:pt x="110" y="137"/>
                </a:cubicBezTo>
                <a:cubicBezTo>
                  <a:pt x="122" y="130"/>
                  <a:pt x="137" y="128"/>
                  <a:pt x="151" y="124"/>
                </a:cubicBezTo>
                <a:cubicBezTo>
                  <a:pt x="277" y="132"/>
                  <a:pt x="365" y="136"/>
                  <a:pt x="480" y="165"/>
                </a:cubicBezTo>
                <a:cubicBezTo>
                  <a:pt x="677" y="156"/>
                  <a:pt x="776" y="147"/>
                  <a:pt x="947" y="124"/>
                </a:cubicBezTo>
                <a:cubicBezTo>
                  <a:pt x="1061" y="128"/>
                  <a:pt x="1176" y="120"/>
                  <a:pt x="1289" y="137"/>
                </a:cubicBezTo>
                <a:cubicBezTo>
                  <a:pt x="1304" y="139"/>
                  <a:pt x="1288" y="178"/>
                  <a:pt x="1303" y="179"/>
                </a:cubicBezTo>
                <a:cubicBezTo>
                  <a:pt x="1550" y="188"/>
                  <a:pt x="1797" y="170"/>
                  <a:pt x="2044" y="165"/>
                </a:cubicBezTo>
                <a:cubicBezTo>
                  <a:pt x="2058" y="160"/>
                  <a:pt x="2072" y="157"/>
                  <a:pt x="2085" y="151"/>
                </a:cubicBezTo>
                <a:cubicBezTo>
                  <a:pt x="2100" y="144"/>
                  <a:pt x="2111" y="130"/>
                  <a:pt x="2126" y="124"/>
                </a:cubicBezTo>
                <a:cubicBezTo>
                  <a:pt x="2193" y="100"/>
                  <a:pt x="2265" y="92"/>
                  <a:pt x="2332" y="69"/>
                </a:cubicBezTo>
                <a:cubicBezTo>
                  <a:pt x="2554" y="78"/>
                  <a:pt x="2904" y="126"/>
                  <a:pt x="3113" y="55"/>
                </a:cubicBezTo>
                <a:cubicBezTo>
                  <a:pt x="3122" y="46"/>
                  <a:pt x="3129" y="34"/>
                  <a:pt x="3141" y="28"/>
                </a:cubicBezTo>
                <a:cubicBezTo>
                  <a:pt x="3167" y="15"/>
                  <a:pt x="3223" y="0"/>
                  <a:pt x="3223" y="0"/>
                </a:cubicBezTo>
                <a:cubicBezTo>
                  <a:pt x="3273" y="5"/>
                  <a:pt x="3324" y="9"/>
                  <a:pt x="3374" y="14"/>
                </a:cubicBezTo>
                <a:cubicBezTo>
                  <a:pt x="3456" y="22"/>
                  <a:pt x="3621" y="41"/>
                  <a:pt x="3621" y="41"/>
                </a:cubicBezTo>
                <a:cubicBezTo>
                  <a:pt x="3639" y="46"/>
                  <a:pt x="3657" y="54"/>
                  <a:pt x="3676" y="55"/>
                </a:cubicBezTo>
                <a:cubicBezTo>
                  <a:pt x="3804" y="63"/>
                  <a:pt x="3933" y="52"/>
                  <a:pt x="4060" y="69"/>
                </a:cubicBezTo>
                <a:cubicBezTo>
                  <a:pt x="4080" y="72"/>
                  <a:pt x="4095" y="139"/>
                  <a:pt x="4101" y="151"/>
                </a:cubicBezTo>
                <a:cubicBezTo>
                  <a:pt x="4125" y="198"/>
                  <a:pt x="4149" y="218"/>
                  <a:pt x="4197" y="233"/>
                </a:cubicBezTo>
                <a:cubicBezTo>
                  <a:pt x="4285" y="293"/>
                  <a:pt x="4302" y="273"/>
                  <a:pt x="4430" y="261"/>
                </a:cubicBezTo>
                <a:cubicBezTo>
                  <a:pt x="4507" y="235"/>
                  <a:pt x="4493" y="216"/>
                  <a:pt x="4526" y="15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42920" y="3324240"/>
            <a:ext cx="7034400" cy="660240"/>
          </a:xfrm>
          <a:custGeom>
            <a:avLst/>
            <a:gdLst/>
            <a:ahLst/>
            <a:rect l="l" t="t" r="r" b="b"/>
            <a:pathLst>
              <a:path w="4431" h="416">
                <a:moveTo>
                  <a:pt x="15" y="279"/>
                </a:moveTo>
                <a:cubicBezTo>
                  <a:pt x="76" y="216"/>
                  <a:pt x="0" y="285"/>
                  <a:pt x="97" y="237"/>
                </a:cubicBezTo>
                <a:cubicBezTo>
                  <a:pt x="109" y="231"/>
                  <a:pt x="114" y="217"/>
                  <a:pt x="125" y="210"/>
                </a:cubicBezTo>
                <a:cubicBezTo>
                  <a:pt x="137" y="203"/>
                  <a:pt x="153" y="202"/>
                  <a:pt x="166" y="196"/>
                </a:cubicBezTo>
                <a:cubicBezTo>
                  <a:pt x="203" y="178"/>
                  <a:pt x="208" y="168"/>
                  <a:pt x="234" y="141"/>
                </a:cubicBezTo>
                <a:cubicBezTo>
                  <a:pt x="792" y="161"/>
                  <a:pt x="488" y="124"/>
                  <a:pt x="714" y="196"/>
                </a:cubicBezTo>
                <a:cubicBezTo>
                  <a:pt x="747" y="295"/>
                  <a:pt x="718" y="263"/>
                  <a:pt x="783" y="306"/>
                </a:cubicBezTo>
                <a:cubicBezTo>
                  <a:pt x="788" y="320"/>
                  <a:pt x="786" y="338"/>
                  <a:pt x="797" y="347"/>
                </a:cubicBezTo>
                <a:cubicBezTo>
                  <a:pt x="823" y="368"/>
                  <a:pt x="861" y="364"/>
                  <a:pt x="893" y="375"/>
                </a:cubicBezTo>
                <a:cubicBezTo>
                  <a:pt x="999" y="370"/>
                  <a:pt x="1142" y="416"/>
                  <a:pt x="1208" y="333"/>
                </a:cubicBezTo>
                <a:cubicBezTo>
                  <a:pt x="1217" y="322"/>
                  <a:pt x="1214" y="304"/>
                  <a:pt x="1222" y="292"/>
                </a:cubicBezTo>
                <a:cubicBezTo>
                  <a:pt x="1233" y="276"/>
                  <a:pt x="1249" y="265"/>
                  <a:pt x="1263" y="251"/>
                </a:cubicBezTo>
                <a:cubicBezTo>
                  <a:pt x="1268" y="237"/>
                  <a:pt x="1267" y="220"/>
                  <a:pt x="1277" y="210"/>
                </a:cubicBezTo>
                <a:cubicBezTo>
                  <a:pt x="1300" y="187"/>
                  <a:pt x="1359" y="155"/>
                  <a:pt x="1359" y="155"/>
                </a:cubicBezTo>
                <a:cubicBezTo>
                  <a:pt x="1535" y="175"/>
                  <a:pt x="1701" y="188"/>
                  <a:pt x="1880" y="196"/>
                </a:cubicBezTo>
                <a:cubicBezTo>
                  <a:pt x="1972" y="190"/>
                  <a:pt x="2070" y="206"/>
                  <a:pt x="2154" y="169"/>
                </a:cubicBezTo>
                <a:cubicBezTo>
                  <a:pt x="2166" y="164"/>
                  <a:pt x="2171" y="149"/>
                  <a:pt x="2182" y="141"/>
                </a:cubicBezTo>
                <a:cubicBezTo>
                  <a:pt x="2208" y="121"/>
                  <a:pt x="2264" y="87"/>
                  <a:pt x="2264" y="87"/>
                </a:cubicBezTo>
                <a:cubicBezTo>
                  <a:pt x="2351" y="91"/>
                  <a:pt x="2438" y="93"/>
                  <a:pt x="2525" y="100"/>
                </a:cubicBezTo>
                <a:cubicBezTo>
                  <a:pt x="2593" y="106"/>
                  <a:pt x="2662" y="141"/>
                  <a:pt x="2730" y="155"/>
                </a:cubicBezTo>
                <a:cubicBezTo>
                  <a:pt x="2780" y="150"/>
                  <a:pt x="2832" y="152"/>
                  <a:pt x="2881" y="141"/>
                </a:cubicBezTo>
                <a:cubicBezTo>
                  <a:pt x="2897" y="138"/>
                  <a:pt x="2906" y="115"/>
                  <a:pt x="2922" y="114"/>
                </a:cubicBezTo>
                <a:cubicBezTo>
                  <a:pt x="3014" y="110"/>
                  <a:pt x="3105" y="123"/>
                  <a:pt x="3197" y="128"/>
                </a:cubicBezTo>
                <a:cubicBezTo>
                  <a:pt x="3244" y="151"/>
                  <a:pt x="3284" y="180"/>
                  <a:pt x="3334" y="196"/>
                </a:cubicBezTo>
                <a:cubicBezTo>
                  <a:pt x="3545" y="186"/>
                  <a:pt x="3750" y="192"/>
                  <a:pt x="3951" y="128"/>
                </a:cubicBezTo>
                <a:cubicBezTo>
                  <a:pt x="3964" y="119"/>
                  <a:pt x="4113" y="5"/>
                  <a:pt x="4143" y="4"/>
                </a:cubicBezTo>
                <a:cubicBezTo>
                  <a:pt x="4239" y="0"/>
                  <a:pt x="4335" y="4"/>
                  <a:pt x="4431" y="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01880" y="3900600"/>
            <a:ext cx="7292880" cy="689040"/>
          </a:xfrm>
          <a:custGeom>
            <a:avLst/>
            <a:gdLst/>
            <a:ahLst/>
            <a:rect l="l" t="t" r="r" b="b"/>
            <a:pathLst>
              <a:path w="4594" h="434">
                <a:moveTo>
                  <a:pt x="0" y="272"/>
                </a:moveTo>
                <a:cubicBezTo>
                  <a:pt x="18" y="263"/>
                  <a:pt x="36" y="252"/>
                  <a:pt x="55" y="245"/>
                </a:cubicBezTo>
                <a:cubicBezTo>
                  <a:pt x="73" y="238"/>
                  <a:pt x="93" y="238"/>
                  <a:pt x="110" y="231"/>
                </a:cubicBezTo>
                <a:cubicBezTo>
                  <a:pt x="125" y="225"/>
                  <a:pt x="136" y="210"/>
                  <a:pt x="151" y="204"/>
                </a:cubicBezTo>
                <a:cubicBezTo>
                  <a:pt x="186" y="191"/>
                  <a:pt x="260" y="176"/>
                  <a:pt x="260" y="176"/>
                </a:cubicBezTo>
                <a:cubicBezTo>
                  <a:pt x="393" y="195"/>
                  <a:pt x="505" y="209"/>
                  <a:pt x="644" y="217"/>
                </a:cubicBezTo>
                <a:cubicBezTo>
                  <a:pt x="861" y="434"/>
                  <a:pt x="632" y="218"/>
                  <a:pt x="1467" y="231"/>
                </a:cubicBezTo>
                <a:cubicBezTo>
                  <a:pt x="1477" y="231"/>
                  <a:pt x="1555" y="269"/>
                  <a:pt x="1577" y="272"/>
                </a:cubicBezTo>
                <a:cubicBezTo>
                  <a:pt x="1627" y="279"/>
                  <a:pt x="1678" y="281"/>
                  <a:pt x="1728" y="286"/>
                </a:cubicBezTo>
                <a:cubicBezTo>
                  <a:pt x="1810" y="281"/>
                  <a:pt x="1893" y="280"/>
                  <a:pt x="1975" y="272"/>
                </a:cubicBezTo>
                <a:cubicBezTo>
                  <a:pt x="2054" y="265"/>
                  <a:pt x="2018" y="243"/>
                  <a:pt x="2112" y="231"/>
                </a:cubicBezTo>
                <a:cubicBezTo>
                  <a:pt x="2149" y="226"/>
                  <a:pt x="2185" y="222"/>
                  <a:pt x="2222" y="217"/>
                </a:cubicBezTo>
                <a:cubicBezTo>
                  <a:pt x="2546" y="114"/>
                  <a:pt x="2162" y="232"/>
                  <a:pt x="3140" y="176"/>
                </a:cubicBezTo>
                <a:cubicBezTo>
                  <a:pt x="3169" y="174"/>
                  <a:pt x="3223" y="149"/>
                  <a:pt x="3223" y="149"/>
                </a:cubicBezTo>
                <a:cubicBezTo>
                  <a:pt x="3341" y="68"/>
                  <a:pt x="3191" y="165"/>
                  <a:pt x="3305" y="108"/>
                </a:cubicBezTo>
                <a:cubicBezTo>
                  <a:pt x="3435" y="43"/>
                  <a:pt x="3323" y="82"/>
                  <a:pt x="3415" y="53"/>
                </a:cubicBezTo>
                <a:cubicBezTo>
                  <a:pt x="4109" y="72"/>
                  <a:pt x="3717" y="0"/>
                  <a:pt x="3963" y="121"/>
                </a:cubicBezTo>
                <a:cubicBezTo>
                  <a:pt x="4040" y="198"/>
                  <a:pt x="4193" y="124"/>
                  <a:pt x="4292" y="108"/>
                </a:cubicBezTo>
                <a:cubicBezTo>
                  <a:pt x="4320" y="99"/>
                  <a:pt x="4347" y="89"/>
                  <a:pt x="4375" y="80"/>
                </a:cubicBezTo>
                <a:cubicBezTo>
                  <a:pt x="4406" y="70"/>
                  <a:pt x="4439" y="92"/>
                  <a:pt x="4471" y="94"/>
                </a:cubicBezTo>
                <a:cubicBezTo>
                  <a:pt x="4512" y="97"/>
                  <a:pt x="4553" y="94"/>
                  <a:pt x="4594" y="9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2360" y="5595840"/>
            <a:ext cx="7947000" cy="595440"/>
          </a:xfrm>
          <a:custGeom>
            <a:avLst/>
            <a:gdLst/>
            <a:ahLst/>
            <a:rect l="l" t="t" r="r" b="b"/>
            <a:pathLst>
              <a:path w="5006" h="375">
                <a:moveTo>
                  <a:pt x="0" y="178"/>
                </a:moveTo>
                <a:cubicBezTo>
                  <a:pt x="151" y="168"/>
                  <a:pt x="269" y="152"/>
                  <a:pt x="412" y="123"/>
                </a:cubicBezTo>
                <a:cubicBezTo>
                  <a:pt x="536" y="375"/>
                  <a:pt x="1248" y="219"/>
                  <a:pt x="1248" y="219"/>
                </a:cubicBezTo>
                <a:cubicBezTo>
                  <a:pt x="1399" y="198"/>
                  <a:pt x="1539" y="175"/>
                  <a:pt x="1687" y="150"/>
                </a:cubicBezTo>
                <a:cubicBezTo>
                  <a:pt x="1822" y="196"/>
                  <a:pt x="1756" y="178"/>
                  <a:pt x="2044" y="178"/>
                </a:cubicBezTo>
                <a:cubicBezTo>
                  <a:pt x="2396" y="178"/>
                  <a:pt x="2748" y="169"/>
                  <a:pt x="3100" y="164"/>
                </a:cubicBezTo>
                <a:cubicBezTo>
                  <a:pt x="3162" y="143"/>
                  <a:pt x="3206" y="131"/>
                  <a:pt x="3264" y="96"/>
                </a:cubicBezTo>
                <a:cubicBezTo>
                  <a:pt x="3255" y="87"/>
                  <a:pt x="3228" y="77"/>
                  <a:pt x="3237" y="68"/>
                </a:cubicBezTo>
                <a:cubicBezTo>
                  <a:pt x="3257" y="48"/>
                  <a:pt x="3293" y="54"/>
                  <a:pt x="3319" y="41"/>
                </a:cubicBezTo>
                <a:cubicBezTo>
                  <a:pt x="3331" y="35"/>
                  <a:pt x="3334" y="19"/>
                  <a:pt x="3346" y="13"/>
                </a:cubicBezTo>
                <a:cubicBezTo>
                  <a:pt x="3363" y="5"/>
                  <a:pt x="3383" y="4"/>
                  <a:pt x="3401" y="0"/>
                </a:cubicBezTo>
                <a:cubicBezTo>
                  <a:pt x="3602" y="4"/>
                  <a:pt x="3804" y="5"/>
                  <a:pt x="4005" y="13"/>
                </a:cubicBezTo>
                <a:cubicBezTo>
                  <a:pt x="4069" y="16"/>
                  <a:pt x="4133" y="47"/>
                  <a:pt x="4197" y="54"/>
                </a:cubicBezTo>
                <a:cubicBezTo>
                  <a:pt x="4256" y="60"/>
                  <a:pt x="4316" y="63"/>
                  <a:pt x="4375" y="68"/>
                </a:cubicBezTo>
                <a:cubicBezTo>
                  <a:pt x="4573" y="118"/>
                  <a:pt x="5006" y="260"/>
                  <a:pt x="5006" y="1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09520" y="2938320"/>
            <a:ext cx="6705720" cy="631800"/>
          </a:xfrm>
          <a:custGeom>
            <a:avLst/>
            <a:gdLst/>
            <a:ahLst/>
            <a:rect l="l" t="t" r="r" b="b"/>
            <a:pathLst>
              <a:path w="4224" h="398">
                <a:moveTo>
                  <a:pt x="0" y="247"/>
                </a:moveTo>
                <a:cubicBezTo>
                  <a:pt x="334" y="233"/>
                  <a:pt x="453" y="221"/>
                  <a:pt x="823" y="247"/>
                </a:cubicBezTo>
                <a:cubicBezTo>
                  <a:pt x="852" y="249"/>
                  <a:pt x="882" y="259"/>
                  <a:pt x="906" y="275"/>
                </a:cubicBezTo>
                <a:cubicBezTo>
                  <a:pt x="965" y="314"/>
                  <a:pt x="1012" y="360"/>
                  <a:pt x="1070" y="398"/>
                </a:cubicBezTo>
                <a:cubicBezTo>
                  <a:pt x="1185" y="375"/>
                  <a:pt x="1300" y="366"/>
                  <a:pt x="1413" y="330"/>
                </a:cubicBezTo>
                <a:cubicBezTo>
                  <a:pt x="1484" y="259"/>
                  <a:pt x="1472" y="285"/>
                  <a:pt x="1550" y="234"/>
                </a:cubicBezTo>
                <a:cubicBezTo>
                  <a:pt x="1678" y="238"/>
                  <a:pt x="1806" y="254"/>
                  <a:pt x="1934" y="247"/>
                </a:cubicBezTo>
                <a:cubicBezTo>
                  <a:pt x="2013" y="243"/>
                  <a:pt x="2100" y="167"/>
                  <a:pt x="2181" y="165"/>
                </a:cubicBezTo>
                <a:cubicBezTo>
                  <a:pt x="2423" y="160"/>
                  <a:pt x="2666" y="156"/>
                  <a:pt x="2908" y="151"/>
                </a:cubicBezTo>
                <a:cubicBezTo>
                  <a:pt x="2954" y="137"/>
                  <a:pt x="3000" y="125"/>
                  <a:pt x="3045" y="110"/>
                </a:cubicBezTo>
                <a:cubicBezTo>
                  <a:pt x="3229" y="122"/>
                  <a:pt x="3410" y="141"/>
                  <a:pt x="3594" y="151"/>
                </a:cubicBezTo>
                <a:cubicBezTo>
                  <a:pt x="3711" y="142"/>
                  <a:pt x="3755" y="135"/>
                  <a:pt x="3854" y="110"/>
                </a:cubicBezTo>
                <a:cubicBezTo>
                  <a:pt x="3956" y="43"/>
                  <a:pt x="4053" y="63"/>
                  <a:pt x="4183" y="55"/>
                </a:cubicBezTo>
                <a:cubicBezTo>
                  <a:pt x="4218" y="21"/>
                  <a:pt x="4206" y="40"/>
                  <a:pt x="42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79560" y="4313160"/>
            <a:ext cx="7445160" cy="476280"/>
          </a:xfrm>
          <a:custGeom>
            <a:avLst/>
            <a:gdLst/>
            <a:ahLst/>
            <a:rect l="l" t="t" r="r" b="b"/>
            <a:pathLst>
              <a:path w="4690" h="300">
                <a:moveTo>
                  <a:pt x="0" y="177"/>
                </a:moveTo>
                <a:cubicBezTo>
                  <a:pt x="108" y="211"/>
                  <a:pt x="68" y="204"/>
                  <a:pt x="274" y="177"/>
                </a:cubicBezTo>
                <a:cubicBezTo>
                  <a:pt x="303" y="173"/>
                  <a:pt x="329" y="158"/>
                  <a:pt x="357" y="149"/>
                </a:cubicBezTo>
                <a:cubicBezTo>
                  <a:pt x="371" y="144"/>
                  <a:pt x="398" y="136"/>
                  <a:pt x="398" y="136"/>
                </a:cubicBezTo>
                <a:cubicBezTo>
                  <a:pt x="691" y="140"/>
                  <a:pt x="983" y="140"/>
                  <a:pt x="1276" y="149"/>
                </a:cubicBezTo>
                <a:cubicBezTo>
                  <a:pt x="1413" y="153"/>
                  <a:pt x="1687" y="177"/>
                  <a:pt x="1687" y="177"/>
                </a:cubicBezTo>
                <a:cubicBezTo>
                  <a:pt x="1769" y="203"/>
                  <a:pt x="1732" y="216"/>
                  <a:pt x="1783" y="259"/>
                </a:cubicBezTo>
                <a:cubicBezTo>
                  <a:pt x="1804" y="276"/>
                  <a:pt x="1852" y="291"/>
                  <a:pt x="1879" y="300"/>
                </a:cubicBezTo>
                <a:cubicBezTo>
                  <a:pt x="2176" y="281"/>
                  <a:pt x="2019" y="300"/>
                  <a:pt x="2181" y="245"/>
                </a:cubicBezTo>
                <a:cubicBezTo>
                  <a:pt x="2384" y="257"/>
                  <a:pt x="2563" y="276"/>
                  <a:pt x="2770" y="245"/>
                </a:cubicBezTo>
                <a:cubicBezTo>
                  <a:pt x="3010" y="209"/>
                  <a:pt x="2813" y="210"/>
                  <a:pt x="2908" y="163"/>
                </a:cubicBezTo>
                <a:cubicBezTo>
                  <a:pt x="2971" y="131"/>
                  <a:pt x="3058" y="120"/>
                  <a:pt x="3127" y="108"/>
                </a:cubicBezTo>
                <a:cubicBezTo>
                  <a:pt x="3182" y="81"/>
                  <a:pt x="3235" y="72"/>
                  <a:pt x="3292" y="53"/>
                </a:cubicBezTo>
                <a:cubicBezTo>
                  <a:pt x="3530" y="300"/>
                  <a:pt x="3962" y="0"/>
                  <a:pt x="4279" y="108"/>
                </a:cubicBezTo>
                <a:cubicBezTo>
                  <a:pt x="4384" y="103"/>
                  <a:pt x="4489" y="94"/>
                  <a:pt x="4594" y="94"/>
                </a:cubicBezTo>
                <a:cubicBezTo>
                  <a:pt x="4626" y="94"/>
                  <a:pt x="4690" y="108"/>
                  <a:pt x="4690" y="1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3416400"/>
            <a:ext cx="7162920" cy="785880"/>
          </a:xfrm>
          <a:custGeom>
            <a:avLst/>
            <a:gdLst/>
            <a:ahLst/>
            <a:rect l="l" t="t" r="r" b="b"/>
            <a:pathLst>
              <a:path w="4512" h="495">
                <a:moveTo>
                  <a:pt x="0" y="399"/>
                </a:moveTo>
                <a:cubicBezTo>
                  <a:pt x="177" y="384"/>
                  <a:pt x="341" y="367"/>
                  <a:pt x="521" y="358"/>
                </a:cubicBezTo>
                <a:cubicBezTo>
                  <a:pt x="654" y="362"/>
                  <a:pt x="787" y="360"/>
                  <a:pt x="919" y="371"/>
                </a:cubicBezTo>
                <a:cubicBezTo>
                  <a:pt x="948" y="373"/>
                  <a:pt x="1001" y="399"/>
                  <a:pt x="1001" y="399"/>
                </a:cubicBezTo>
                <a:cubicBezTo>
                  <a:pt x="1001" y="400"/>
                  <a:pt x="1008" y="495"/>
                  <a:pt x="1042" y="495"/>
                </a:cubicBezTo>
                <a:cubicBezTo>
                  <a:pt x="1189" y="495"/>
                  <a:pt x="1481" y="467"/>
                  <a:pt x="1481" y="467"/>
                </a:cubicBezTo>
                <a:cubicBezTo>
                  <a:pt x="1568" y="451"/>
                  <a:pt x="1620" y="426"/>
                  <a:pt x="1701" y="399"/>
                </a:cubicBezTo>
                <a:cubicBezTo>
                  <a:pt x="2100" y="0"/>
                  <a:pt x="3541" y="275"/>
                  <a:pt x="3566" y="275"/>
                </a:cubicBezTo>
                <a:cubicBezTo>
                  <a:pt x="3706" y="254"/>
                  <a:pt x="3838" y="217"/>
                  <a:pt x="3977" y="193"/>
                </a:cubicBezTo>
                <a:cubicBezTo>
                  <a:pt x="3986" y="184"/>
                  <a:pt x="3998" y="177"/>
                  <a:pt x="4005" y="166"/>
                </a:cubicBezTo>
                <a:cubicBezTo>
                  <a:pt x="4012" y="154"/>
                  <a:pt x="4008" y="135"/>
                  <a:pt x="4018" y="125"/>
                </a:cubicBezTo>
                <a:cubicBezTo>
                  <a:pt x="4028" y="115"/>
                  <a:pt x="4045" y="116"/>
                  <a:pt x="4059" y="111"/>
                </a:cubicBezTo>
                <a:cubicBezTo>
                  <a:pt x="4411" y="127"/>
                  <a:pt x="4260" y="125"/>
                  <a:pt x="4512" y="12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2000" y="5280120"/>
            <a:ext cx="7567920" cy="495360"/>
          </a:xfrm>
          <a:custGeom>
            <a:avLst/>
            <a:gdLst/>
            <a:ahLst/>
            <a:rect l="l" t="t" r="r" b="b"/>
            <a:pathLst>
              <a:path w="4767" h="312">
                <a:moveTo>
                  <a:pt x="8" y="144"/>
                </a:moveTo>
                <a:cubicBezTo>
                  <a:pt x="266" y="224"/>
                  <a:pt x="0" y="146"/>
                  <a:pt x="722" y="185"/>
                </a:cubicBezTo>
                <a:cubicBezTo>
                  <a:pt x="831" y="191"/>
                  <a:pt x="943" y="208"/>
                  <a:pt x="1051" y="226"/>
                </a:cubicBezTo>
                <a:cubicBezTo>
                  <a:pt x="1146" y="288"/>
                  <a:pt x="1139" y="249"/>
                  <a:pt x="1243" y="240"/>
                </a:cubicBezTo>
                <a:cubicBezTo>
                  <a:pt x="1320" y="233"/>
                  <a:pt x="1398" y="231"/>
                  <a:pt x="1476" y="226"/>
                </a:cubicBezTo>
                <a:cubicBezTo>
                  <a:pt x="1733" y="138"/>
                  <a:pt x="2601" y="312"/>
                  <a:pt x="2216" y="240"/>
                </a:cubicBezTo>
                <a:cubicBezTo>
                  <a:pt x="2225" y="231"/>
                  <a:pt x="2244" y="225"/>
                  <a:pt x="2244" y="212"/>
                </a:cubicBezTo>
                <a:cubicBezTo>
                  <a:pt x="2244" y="195"/>
                  <a:pt x="2205" y="159"/>
                  <a:pt x="2216" y="171"/>
                </a:cubicBezTo>
                <a:cubicBezTo>
                  <a:pt x="2236" y="192"/>
                  <a:pt x="2253" y="217"/>
                  <a:pt x="2271" y="240"/>
                </a:cubicBezTo>
                <a:cubicBezTo>
                  <a:pt x="2398" y="197"/>
                  <a:pt x="2215" y="255"/>
                  <a:pt x="2532" y="212"/>
                </a:cubicBezTo>
                <a:cubicBezTo>
                  <a:pt x="2561" y="208"/>
                  <a:pt x="2585" y="189"/>
                  <a:pt x="2614" y="185"/>
                </a:cubicBezTo>
                <a:cubicBezTo>
                  <a:pt x="2651" y="180"/>
                  <a:pt x="2687" y="176"/>
                  <a:pt x="2724" y="171"/>
                </a:cubicBezTo>
                <a:cubicBezTo>
                  <a:pt x="2954" y="95"/>
                  <a:pt x="3139" y="98"/>
                  <a:pt x="3396" y="89"/>
                </a:cubicBezTo>
                <a:cubicBezTo>
                  <a:pt x="3423" y="80"/>
                  <a:pt x="3450" y="68"/>
                  <a:pt x="3478" y="61"/>
                </a:cubicBezTo>
                <a:cubicBezTo>
                  <a:pt x="3496" y="57"/>
                  <a:pt x="3515" y="53"/>
                  <a:pt x="3533" y="48"/>
                </a:cubicBezTo>
                <a:cubicBezTo>
                  <a:pt x="3561" y="40"/>
                  <a:pt x="3615" y="20"/>
                  <a:pt x="3615" y="20"/>
                </a:cubicBezTo>
                <a:cubicBezTo>
                  <a:pt x="4008" y="55"/>
                  <a:pt x="3825" y="42"/>
                  <a:pt x="4164" y="61"/>
                </a:cubicBezTo>
                <a:cubicBezTo>
                  <a:pt x="4265" y="52"/>
                  <a:pt x="4366" y="46"/>
                  <a:pt x="4466" y="34"/>
                </a:cubicBezTo>
                <a:cubicBezTo>
                  <a:pt x="4529" y="26"/>
                  <a:pt x="4488" y="0"/>
                  <a:pt x="4534" y="48"/>
                </a:cubicBezTo>
                <a:cubicBezTo>
                  <a:pt x="4539" y="66"/>
                  <a:pt x="4537" y="88"/>
                  <a:pt x="4548" y="103"/>
                </a:cubicBezTo>
                <a:cubicBezTo>
                  <a:pt x="4615" y="199"/>
                  <a:pt x="4660" y="199"/>
                  <a:pt x="4767" y="19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Kretanje mikroorganizma od svog</a:t>
            </a:r>
            <a:br>
              <a:rPr sz="36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zvor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domaćin u kome živi)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roz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redin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putevi prenošenja)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 novog organizma  (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setljiva populacij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ARAKTERISTIKE EPIDEMIJA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A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IH BOLESTI</a:t>
            </a:r>
            <a:br>
              <a:rPr sz="3600"/>
            </a:br>
            <a:br>
              <a:rPr sz="2400"/>
            </a:b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EPIDEMIJA zarazne bolesti jeste porast broja obolelih od zarazne bolesti veći od uobičajenog u određenoj populaciji i određenom vremenu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pidemiolo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klasifikacija zaraznih bolesti se zasniva na ulaznom mestu infekcije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Epidemijsko javljanje može biti: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epidemija zajedničkog izvora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prog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ivne (propagirajuće) epidemije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eđutim, u našoj praksi je uobičajeno da se epidemije dele podrobnije na osnovu glavnog puta prenošenja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98440" y="345960"/>
          <a:ext cx="8640360" cy="6135480"/>
        </p:xfrm>
        <a:graphic>
          <a:graphicData uri="http://schemas.openxmlformats.org/drawingml/2006/table">
            <a:tbl>
              <a:tblPr/>
              <a:tblGrid>
                <a:gridCol w="2676600"/>
                <a:gridCol w="2446200"/>
                <a:gridCol w="3517560"/>
              </a:tblGrid>
              <a:tr h="132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pidemiološka klasifikac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araznih bolesti (prema ulaznom mest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ip epidem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dela epidemija prema putu širen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jedničkog izv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drične (indirektan prenos vod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jedničkog izv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imentarne (indirektan prenos hran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tne (direktan prenos dodirom, tj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ljavim rukama i indirektni prenos prek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met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irator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 ili zajedničkog izvora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rogene (indirektan prenos vazduhom, tj. nukleosima i prašin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irator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pljične (direktni prenos kapljica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žne i druge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aktne (direktni prenos dodir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ktors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ktorske (indirektan prenos vektori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ne, urinarne, oč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aktne (direktan prenos dodirom, indirektan prenos instrumenti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KONTAKTNE EPIDEMIJE</a:t>
            </a:r>
            <a:br>
              <a:rPr sz="3600"/>
            </a:br>
            <a:br>
              <a:rPr sz="1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1. Nema eksplozivnost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2. Ukupan broj obolelih, po pravilu nije velik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Slučajevi oboljenja su međusobno povezani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rodbinskom ili poslovnim vezam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4. 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pidemija dugo traj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5. 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o se epidemija prikaže grafički, 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epidemijska krivulja je plitka i razvučen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Inkubacija obično odgovara trajanju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prosečne inkubacije za tu bolest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7. 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pidemija je lokalizovana na kuću, zaselak,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deo naselja i sl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ontaktne epidemije nisu vezane za sezonu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9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ontaktne epidemije su uvek monotip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8920" y="291600"/>
            <a:ext cx="849636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HIDRIČNE EPIDEMIJE</a:t>
            </a:r>
            <a:br>
              <a:rPr sz="1800"/>
            </a:b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1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. Promena organoleptičkih svojstava vod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2. Prisustvo indikatora fekalnog zagađenj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3. Nalaz patogenih uzročnik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4. Pojava vodene bolesti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5. Produžena inkubacij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6. Eksplozivnos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7. Kontrolne grup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8. U hidričnoj epidemiji obolevaju samo osobe koje su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konzumirale zagađenu vodu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9. Trajanje hidrične epidemije se poklapa s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vremenom maksimalne inkubacije za dotičnu boles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0. Kontaktni rep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1. Hidrične epidemije, po pravilu, nemaju sezonski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karakt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2. Epidemije hidričnog porekla su najčešće politip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EPIDEMIJE ALIMENTARNOG POREKL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1. Eksplozivnos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2. Dramatičnos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3. Kratka inkubacija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4. Kratko trajanje epidemij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5. Kontrolne grup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6. Monotipnos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7. Nalaz istog uzročnika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8. Nema kontaktnog repa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9. Sudsko-medicinski značaj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EPIDEMIJE  KAPLJIČNOG POREKL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1. Brzina prenošenja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2. Eksplozivnost epidemij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3. Nagli porast i brzi pa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4. Veliki broj zdravih kliconoš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5. Sezonski karakt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6. Periodičnost ili cikličnos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7. Dečji karakt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8. Koncentrično širen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VEKTORSKE EPIDEMIJE</a:t>
            </a:r>
            <a:br>
              <a:rPr sz="3600"/>
            </a:br>
            <a:br>
              <a:rPr sz="16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Epidemije bolesti prenetih hematofagnim artropodama imaju izrazito sezonski karakter koji zavisi od: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 biološkog ciklusa vektora (ritam ishrane, hibernacija i sl.)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 aktivnosti čoveka (sezona poljskih radova, kampovanje itd.)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 ekoloških uslova (kišne ili sušne godine, toplija ili hladnija leta i dr.)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Komarci, krpelji i muve su najaktivniji u toplim mesecima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Vaši koje borave u naborima odeće, nejpovoljniji su hladni meseci.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Povećanje populacije vektora je u direktnoj vezi sa povoljnim klimatskim uslovima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Malarija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kraljica tropskih boles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”)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u velikom delu sveta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U zemljama Evrope najčešće transmisivne bolesti su lajmska i krpeljski meningoencefa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3800" spc="-1" strike="noStrike">
                <a:solidFill>
                  <a:srgbClr val="ffff00"/>
                </a:solidFill>
                <a:latin typeface="Times New Roman"/>
              </a:rPr>
              <a:t>Epidemijski proces može biti:</a:t>
            </a:r>
            <a:r>
              <a:rPr b="0" lang="sr-Latn-C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800"/>
            </a:br>
            <a:br>
              <a:rPr sz="36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3300"/>
                </a:solidFill>
                <a:latin typeface="Times New Roman"/>
              </a:rPr>
              <a:t>Jednostavan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(morbili)</a:t>
            </a:r>
            <a:br>
              <a:rPr sz="3600"/>
            </a:b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3300"/>
                </a:solidFill>
                <a:latin typeface="Times New Roman"/>
              </a:rPr>
              <a:t>Komplikovan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(antropozoonoz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ffff00"/>
                </a:solidFill>
                <a:latin typeface="Times New Roman"/>
              </a:rPr>
              <a:t>Jednostavan epidemijski proces (morbili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285120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342756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400356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457992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306720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364320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414648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479592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306720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414648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479592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400356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29224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Osetljiva os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363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Neosetljiva os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1384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37148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42908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908000" y="2634840"/>
            <a:ext cx="194328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8000" y="3211200"/>
            <a:ext cx="1943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8000" y="3571920"/>
            <a:ext cx="1943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0360" y="26352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321156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908000" y="429084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4795920"/>
            <a:ext cx="1943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429084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493884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ffff00"/>
                </a:solidFill>
                <a:latin typeface="Times New Roman"/>
              </a:rPr>
              <a:t>Komplikovan epidemijski pro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glodar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hr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Rezervo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zaraze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vektor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čovek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čov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(divlji glodar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(put prenošenja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v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3933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3284640"/>
            <a:ext cx="2305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940360" y="2781360"/>
            <a:ext cx="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7280" y="3933720"/>
            <a:ext cx="36036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3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172360" y="3933360"/>
            <a:ext cx="36036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604360" y="3500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820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532720" y="3499920"/>
            <a:ext cx="28728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Za nastanak bolesti su odgovorni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odnosi koji vladaju između:</a:t>
            </a:r>
            <a:br>
              <a:rPr sz="36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gens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omać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re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Ti odnosi se mogu šematizovano prikazati kao modeli nastanka bolesti: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Model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ekološkog trijas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Gordonov trijas)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Model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lanc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Model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točk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Model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mreže uzro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odel ekološkog trijas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(Gordonov trijas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                  ( model terazija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                     (model klackal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gens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omać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r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149720"/>
            <a:ext cx="619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3573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59640" y="3573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500720" y="414972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6:17:37Z</dcterms:created>
  <dc:creator>Z V</dc:creator>
  <dc:description/>
  <dc:language>en-US</dc:language>
  <cp:lastModifiedBy>v zoran</cp:lastModifiedBy>
  <dcterms:modified xsi:type="dcterms:W3CDTF">2008-12-08T10:01:51Z</dcterms:modified>
  <cp:revision>100</cp:revision>
  <dc:subject/>
  <dc:title>EPIDEMIOLOGIJA ZARAZNIH BOLESTI</dc:title>
</cp:coreProperties>
</file>